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839B-547F-4DC3-AC97-3D04381BC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A973-657A-451D-B42E-60780D3BF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456C-00C9-4AF0-95D6-F11CC7134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3184-137C-40F7-B8D0-AECABA4F3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1917-2C1D-4FAA-A88E-6C5D620E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8E10-1CC7-467D-9317-CBC960409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9D37-621C-45BE-9C8B-4BFB6D14B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C924-76C7-4DF8-A554-1434A8EA4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2606-19CB-4FEF-BDA3-5BBEAD886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03B4-C946-418C-AD3B-E79E95F2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67F9-2C92-427B-AAEB-0D4718A2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C556-2DA3-4F7F-8577-746AD1D8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C6D64-F33C-468E-B14B-DC5F0049B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PROCESE PSIHICE COGNITIVE SUPERIOA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GÂNDIREA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sihologie, clasa a 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Elena Lupşa, Victor Bratu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98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nivelul cel mai înalt de prelucrare şi integrare a informaţiei despre lumea externă şi despre noi înşine. Prin ea se realizează saltul calitativ al activităţii de cunoaştere de 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2" descr="comp_i"/>
          <p:cNvPicPr/>
          <p:nvPr/>
        </p:nvPicPr>
        <p:blipFill>
          <a:blip r:embed="rId1">
            <a:grayscl/>
          </a:blip>
          <a:stretch/>
        </p:blipFill>
        <p:spPr>
          <a:xfrm>
            <a:off x="5105520" y="2286000"/>
            <a:ext cx="1439640" cy="180036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sihologul american, J. P. Guilford, a propus un model larg acceptat al structurii gândirii, format din trei compon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peraţ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valu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con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di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emori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gniţie sa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noaşt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ţinutu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portament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mantic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mbolic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gur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d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tăţ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laţi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stem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sformă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Elev</cp:lastModifiedBy>
  <dcterms:modified xsi:type="dcterms:W3CDTF">2012-06-19T10:53:08Z</dcterms:modified>
  <cp:revision>24</cp:revision>
  <dc:subject/>
  <dc:title>PROCESE PSIHICE COGNITIVE SUPERIOARE - GÂNDIRE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